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1DF-D88D-41BE-8831-BB9A82EA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D1C-60AB-4303-AF74-E948007F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014-910C-4304-9FE9-18925B7D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AD6-9594-4663-A115-D56FE2B8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C8B-055E-47AF-AA97-11B0A851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D12-6C91-4293-A390-EB34159A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D05-F403-4774-8DF6-19AF8AA8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2AD-2C59-46F5-8983-6A5B2D75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5B8-1BA7-4F06-AD07-978576A2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C8C-4EC3-4212-BF0F-6706F240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4E9-D2E8-491B-956E-091C40AE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18C-E99B-4187-9525-D1ADFA26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50B6-2DC4-492F-842F-FF3837714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905120" y="914400"/>
            <a:ext cx="5038560" cy="24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t Righ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819520" y="3505320"/>
            <a:ext cx="3276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amp; Be Healthy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43" name="Object 6"/>
          <p:cNvGraphicFramePr/>
          <p:nvPr/>
        </p:nvGraphicFramePr>
        <p:xfrm>
          <a:off x="7010280" y="4648320"/>
          <a:ext cx="146700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4648320"/>
                    <a:ext cx="14670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7"/>
          <p:cNvGraphicFramePr/>
          <p:nvPr/>
        </p:nvGraphicFramePr>
        <p:xfrm>
          <a:off x="304920" y="609480"/>
          <a:ext cx="1304640" cy="12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609480"/>
                    <a:ext cx="130464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9"/>
          <p:cNvGraphicFramePr/>
          <p:nvPr/>
        </p:nvGraphicFramePr>
        <p:xfrm>
          <a:off x="228600" y="5181480"/>
          <a:ext cx="2209680" cy="12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181480"/>
                    <a:ext cx="22096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11"/>
          <p:cNvGraphicFramePr/>
          <p:nvPr/>
        </p:nvGraphicFramePr>
        <p:xfrm>
          <a:off x="3733920" y="5410080"/>
          <a:ext cx="1066680" cy="106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5410080"/>
                    <a:ext cx="10666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12"/>
          <p:cNvGraphicFramePr/>
          <p:nvPr/>
        </p:nvGraphicFramePr>
        <p:xfrm>
          <a:off x="609480" y="2666880"/>
          <a:ext cx="1022400" cy="1724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2666880"/>
                    <a:ext cx="10224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Food Pyram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Fats, Oils &amp; Sweets</a:t>
            </a:r>
            <a:br>
              <a:rPr sz="72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Use Sparing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1219320" y="4191120"/>
          <a:ext cx="259056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191120"/>
                    <a:ext cx="259056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7"/>
          <p:cNvGraphicFramePr/>
          <p:nvPr/>
        </p:nvGraphicFramePr>
        <p:xfrm>
          <a:off x="3886200" y="2819520"/>
          <a:ext cx="1389240" cy="11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819520"/>
                    <a:ext cx="13892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8"/>
          <p:cNvGraphicFramePr/>
          <p:nvPr/>
        </p:nvGraphicFramePr>
        <p:xfrm>
          <a:off x="6477120" y="2895480"/>
          <a:ext cx="1649160" cy="141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895480"/>
                    <a:ext cx="164916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9"/>
          <p:cNvGraphicFramePr/>
          <p:nvPr/>
        </p:nvGraphicFramePr>
        <p:xfrm>
          <a:off x="5334120" y="4419720"/>
          <a:ext cx="2209680" cy="155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419720"/>
                    <a:ext cx="220968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Milk, Yogurt &amp; Cheese</a:t>
            </a:r>
            <a:br>
              <a:rPr sz="72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-3 Serv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1143000" y="4191120"/>
          <a:ext cx="130500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191120"/>
                    <a:ext cx="13050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"/>
          <p:cNvGraphicFramePr/>
          <p:nvPr/>
        </p:nvGraphicFramePr>
        <p:xfrm>
          <a:off x="6095880" y="3733920"/>
          <a:ext cx="1908360" cy="17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3733920"/>
                    <a:ext cx="190836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6"/>
          <p:cNvGraphicFramePr/>
          <p:nvPr/>
        </p:nvGraphicFramePr>
        <p:xfrm>
          <a:off x="5029200" y="4800600"/>
          <a:ext cx="523800" cy="124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4800600"/>
                    <a:ext cx="52380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7"/>
          <p:cNvGraphicFramePr/>
          <p:nvPr/>
        </p:nvGraphicFramePr>
        <p:xfrm>
          <a:off x="3124080" y="2743200"/>
          <a:ext cx="105588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2743200"/>
                    <a:ext cx="1055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Meat, Poultry, Fish, Dry Beans, Eggs, &amp; Nuts</a:t>
            </a:r>
            <a:br>
              <a:rPr sz="72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-3 Serv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6477120" y="4648320"/>
          <a:ext cx="22860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4648320"/>
                    <a:ext cx="22860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4"/>
          <p:cNvGraphicFramePr/>
          <p:nvPr/>
        </p:nvGraphicFramePr>
        <p:xfrm>
          <a:off x="1219320" y="2971800"/>
          <a:ext cx="990360" cy="87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990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5"/>
          <p:cNvGraphicFramePr/>
          <p:nvPr/>
        </p:nvGraphicFramePr>
        <p:xfrm>
          <a:off x="914400" y="4495680"/>
          <a:ext cx="1411200" cy="14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4495680"/>
                    <a:ext cx="1411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6"/>
          <p:cNvGraphicFramePr/>
          <p:nvPr/>
        </p:nvGraphicFramePr>
        <p:xfrm>
          <a:off x="3505320" y="5105520"/>
          <a:ext cx="1858680" cy="7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5105520"/>
                    <a:ext cx="18586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Vegetables</a:t>
            </a:r>
            <a:br>
              <a:rPr sz="72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3-5 Serv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3505320" y="3276720"/>
          <a:ext cx="1434960" cy="12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276720"/>
                    <a:ext cx="1434960" cy="12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5"/>
          <p:cNvGraphicFramePr/>
          <p:nvPr/>
        </p:nvGraphicFramePr>
        <p:xfrm>
          <a:off x="5715000" y="5105520"/>
          <a:ext cx="2590920" cy="96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5105520"/>
                    <a:ext cx="259092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6"/>
          <p:cNvGraphicFramePr/>
          <p:nvPr/>
        </p:nvGraphicFramePr>
        <p:xfrm>
          <a:off x="1143000" y="2895480"/>
          <a:ext cx="15289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895480"/>
                    <a:ext cx="15289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7"/>
          <p:cNvGraphicFramePr/>
          <p:nvPr/>
        </p:nvGraphicFramePr>
        <p:xfrm>
          <a:off x="6629400" y="2666880"/>
          <a:ext cx="1752480" cy="147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2666880"/>
                    <a:ext cx="175248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8"/>
          <p:cNvGraphicFramePr/>
          <p:nvPr/>
        </p:nvGraphicFramePr>
        <p:xfrm>
          <a:off x="2514600" y="5410080"/>
          <a:ext cx="2438280" cy="114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5410080"/>
                    <a:ext cx="2438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9"/>
          <p:cNvGraphicFramePr/>
          <p:nvPr/>
        </p:nvGraphicFramePr>
        <p:xfrm>
          <a:off x="4572000" y="2438280"/>
          <a:ext cx="1843200" cy="106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2438280"/>
                    <a:ext cx="18432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0"/>
          <p:cNvGraphicFramePr/>
          <p:nvPr/>
        </p:nvGraphicFramePr>
        <p:xfrm>
          <a:off x="533520" y="914400"/>
          <a:ext cx="1104840" cy="15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520" y="914400"/>
                    <a:ext cx="110484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Fruit</a:t>
            </a:r>
            <a:br>
              <a:rPr sz="72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-4 Serv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914400" y="4648320"/>
          <a:ext cx="1031760" cy="12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648320"/>
                    <a:ext cx="103176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4"/>
          <p:cNvGraphicFramePr/>
          <p:nvPr/>
        </p:nvGraphicFramePr>
        <p:xfrm>
          <a:off x="6705720" y="3124080"/>
          <a:ext cx="1541520" cy="17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3124080"/>
                    <a:ext cx="1541520" cy="17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5"/>
          <p:cNvGraphicFramePr/>
          <p:nvPr/>
        </p:nvGraphicFramePr>
        <p:xfrm>
          <a:off x="6934320" y="5105520"/>
          <a:ext cx="944280" cy="94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5105520"/>
                    <a:ext cx="94428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2666880" y="5257800"/>
          <a:ext cx="106704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5257800"/>
                    <a:ext cx="1067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2057400" y="2895480"/>
          <a:ext cx="825480" cy="144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2895480"/>
                    <a:ext cx="8254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8"/>
          <p:cNvGraphicFramePr/>
          <p:nvPr/>
        </p:nvGraphicFramePr>
        <p:xfrm>
          <a:off x="838080" y="685800"/>
          <a:ext cx="954360" cy="182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685800"/>
                    <a:ext cx="954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9"/>
          <p:cNvGraphicFramePr/>
          <p:nvPr/>
        </p:nvGraphicFramePr>
        <p:xfrm>
          <a:off x="685800" y="3048120"/>
          <a:ext cx="75420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1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" y="3048120"/>
                    <a:ext cx="7542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0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11"/>
          <p:cNvGraphicFramePr/>
          <p:nvPr/>
        </p:nvGraphicFramePr>
        <p:xfrm>
          <a:off x="5029200" y="2895480"/>
          <a:ext cx="957240" cy="976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9200" y="2895480"/>
                    <a:ext cx="95724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2"/>
          <p:cNvGraphicFramePr/>
          <p:nvPr/>
        </p:nvGraphicFramePr>
        <p:xfrm>
          <a:off x="3124080" y="4038480"/>
          <a:ext cx="828720" cy="730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24080" y="4038480"/>
                    <a:ext cx="82872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3"/>
          <p:cNvGraphicFramePr/>
          <p:nvPr/>
        </p:nvGraphicFramePr>
        <p:xfrm>
          <a:off x="3505320" y="2743200"/>
          <a:ext cx="815760" cy="693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8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05320" y="2743200"/>
                    <a:ext cx="8157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15"/>
          <p:cNvGraphicFramePr/>
          <p:nvPr/>
        </p:nvGraphicFramePr>
        <p:xfrm>
          <a:off x="4495680" y="4114800"/>
          <a:ext cx="1646280" cy="1266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1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95680" y="4114800"/>
                    <a:ext cx="16462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Bread, Cereal, Rice &amp; Pasta</a:t>
            </a:r>
            <a:br>
              <a:rPr sz="72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6-11 Serv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3657600" y="4572000"/>
          <a:ext cx="213372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0"/>
                    <a:ext cx="213372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4"/>
          <p:cNvGraphicFramePr/>
          <p:nvPr/>
        </p:nvGraphicFramePr>
        <p:xfrm>
          <a:off x="1752480" y="5257800"/>
          <a:ext cx="87804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5257800"/>
                    <a:ext cx="8780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5"/>
          <p:cNvGraphicFramePr/>
          <p:nvPr/>
        </p:nvGraphicFramePr>
        <p:xfrm>
          <a:off x="6810480" y="4114800"/>
          <a:ext cx="80964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10480" y="4114800"/>
                    <a:ext cx="8096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1143000" y="3352680"/>
          <a:ext cx="1143000" cy="100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3352680"/>
                    <a:ext cx="114300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at Right &amp; Reach Your Goal of Eating Righ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9T12:42:08Z</dcterms:created>
  <dc:creator>Janet Caughlin</dc:creator>
  <dc:description/>
  <dc:language>en-US</dc:language>
  <cp:lastModifiedBy>gbarna</cp:lastModifiedBy>
  <cp:lastPrinted>1999-01-09T12:46:20Z</cp:lastPrinted>
  <dcterms:modified xsi:type="dcterms:W3CDTF">2010-08-03T23:14:28Z</dcterms:modified>
  <cp:revision>10</cp:revision>
  <dc:subject/>
  <dc:title>No Slide Title</dc:title>
</cp:coreProperties>
</file>